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E69A-A6A9-4283-943D-79C3A594D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res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B1C4-2545-4EF0-867F-93321F011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2E84-DCF0-4514-A934-E295EDDC2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0386-E3D9-4475-A354-50C76EA60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Calibri"/>
                <a:ea typeface="B Titr"/>
              </a:rPr>
              <a:t>"چگونه موج رفتار موجی نشان می دهد"،"چگونه نویسنده های معروف خوانندگانشان را روی داستان میخکوب می کنند"،"چه مدلی چرخه اقتصادی را بهتر نشان می دهد؟"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Calibri"/>
                <a:cs typeface="B Titr"/>
              </a:rPr>
              <a:t>در محاسبات: چه خطاهایی اجتناب نا پذیراست؟-چند درصد خطا قابل قبول است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E410-C2AB-4A7A-A1DE-8EFDA99EB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51ED-5418-4F76-9EBC-6A0899824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6238-D02B-40B3-A3CE-79E34EBB2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حقيقي: شامل دانش و مهارت مورد نياز براي موفق شدن در خارج از مدرسه استاك هاي شناخته شده در سطح پيشرفته اي است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از: مبتني بر استاندارد و ملاك هاي معلوم با ظرفيت هاي خاص براي دانش آموزان، معلمان و اوليا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دون جهت گيري: اجازه استفاده از فرآيندي تبعيض آميز و غير عادلانه نمي شود را نمي دهد و براي سبك هاي يادگيري و پيشينه و فرهنگ دانش آموزان احترام قائل مي شود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مستلزم استفاده از دانش توليد شده است: نياز مند آ است كه دانش آموزان دانش جديدي را توليد كنند و آن را براي حل مسئله بكار مي گيرن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فرآيند- شفاف كننده است: مستلزم آن است كه دانش آموزان چيزي را توليدي/ اجرايي كنند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شفاف كننده دانش آموز است: دانش آموزان را درگير خود ارزشيابي و توسعه ابزار هاي سنجش مي‌كند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طولي: سنجش دانش آموزان در طول زمان بسط داده مي‌شو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4482-5A82-4DA5-8BAB-F5A4A8A03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« 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عجز جاافتاده -نهادينه شده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killed incompe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انسان هايي با اين ويژگي، به طر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شگفت انگيزي در دور نگه داشتن خود از فرصت هاي يادگيري، ورزيده اند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ناتواني در يادگيري يا امتناع از يادگيري از ديرباز و براي دوره ها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طولاني گريبان آدمي را گرفته است و آموزش هاي رسمي نيز معمولا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در تغيير اين وضع ناكام بوده اند. درس پژوهي تا حدود زيادي مي توان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ه مؤسسات آموزشي كمك كند تا خود را متحول سازند و ب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كارگزاران آموزشي ياري رساند تا بر احساس ناتواني سازماندهي تغيي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يا امتناع از يادگيري، ترس از دانستن و فرار از آگاهي فائق آيند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A444-60AD-4A40-A8EA-7B6164F78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58B-9A45-4854-8A90-53BD78B8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20FA-62B6-4D58-BF54-B4DD9139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44C-E38B-4397-A8AA-7683E415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8A3-C636-4E18-83DA-D326ABDB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963B-1D90-42DE-9005-2D758496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1CD3-1E71-4B9E-83C3-6AF021FA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3E1A-0AD5-4C27-A3BD-5A3298FD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5450-674D-4D20-B38C-47BEA1E0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BB43-F1F3-4640-94AC-D0DD7CA2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CD05-52E4-4107-8931-19485565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8D1E-C28F-4DC5-819B-258E40C3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DD5-E4B8-4569-8AB4-AEBD12E4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ACA1-6994-48BF-9E9F-ED1DEE30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A9B2-E81A-4664-9594-86879EBE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CC45-FD7F-4AC7-845A-EE355E2B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9621-8235-4D00-8A5A-C250AEF7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3C12-D5F4-432E-A796-D833EA7E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7D580-9AF5-48FA-AB3C-1F3E02B4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106F5-53B9-47B3-9AC8-626D1ABB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79F8D-BC89-4415-BB0B-73B8CAA7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71333-4AFE-4D35-96B6-B6579095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B24B0-DE6E-4833-ABED-FC022C19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A51-E9DE-4E43-8AE8-0489B90E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D2E1-F36F-4C07-B855-BB91EC9B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B9342-A517-439E-8981-9CB602D8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056DB-64BF-4C98-82A8-197DC457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03CB0-F332-4291-9E5E-45C35C99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E0EA1-DB3E-4C55-88B6-042EF0A3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01962-C75A-4B43-B847-85856FA2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2F6EC-4F83-4ADA-AE59-C8D3FA2E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4AE3A-3F28-4E7E-B084-8FAEC83B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8695C-273D-4863-9D27-C12D0C20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A2D3A-2899-4786-A2D9-50E2F26C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78D-6C08-4319-96E6-C0B9F9A1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53CAA-B5A4-4F64-92C2-8612E793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2D0E7-EC6A-4F0B-9382-995ADF9E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82BDE-590C-4A2C-B119-16C014D6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AAF0A-BD62-4270-9923-5CE76B02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A5BB3-8BEB-48B0-A20B-C38D92B2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BF10C-A039-4FA6-B7A0-2B5E41D4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BD292-B11E-4B87-9E38-7ADAAEEC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6E2F9-6476-4FC3-B547-6ABFD729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4C7EA-D624-4696-A78A-9A9B85C1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FB419-D471-42D5-8614-EABF33A5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553-3EE4-41AE-BADA-D12E1223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6096A-7AF8-4533-995A-5A0F6A3A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5E0E0-319A-4640-9695-94C68B99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417E1-6EC1-4DD3-BB4C-BCA11A21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D41BB-B8E2-42F7-B1E0-2A059EBA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7C708-4C28-4888-9A60-F716B2F9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09AFA-7893-48DB-BB25-C851CFEE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E4F95-4F82-4D0F-B0C5-A0989108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71F21-2405-470B-A9BD-948DBBF5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9EE0B-0CDA-4850-9BC1-6EC6BB4F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0E752-2A93-4189-B6C9-6494674C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FD2-B7AA-48F7-BAFD-15225C2B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9C058-05AF-476D-B04B-15119BC9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6A8-9B7C-409F-9352-D1D9EC1E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BB1-1EAB-4541-85E0-711B6C65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816B-DD15-4DE2-9118-C150B078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4084-C8DD-45B2-8192-F34F06EC00E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1960" cy="15271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1960" cy="1206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1960" cy="11124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E3FF-9EF3-45F3-922C-4A6AF79BADE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DE4C-2C35-430C-A484-60C42B79393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72FC-6F0B-45D2-9CFB-737708151B7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BB58-2048-49E1-BECB-E0EB8B7164B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c6a52"/>
                </a:solidFill>
                <a:latin typeface="Perpetua"/>
                <a:cs typeface="B Titr"/>
              </a:rPr>
              <a:t>با سپاس از همراهی و همدلی همه شما بزرگواران در اجرای برنامه کارورزی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38677"/>
                </a:solidFill>
                <a:latin typeface="Perpetua"/>
                <a:cs typeface="B Titr"/>
              </a:rPr>
              <a:t>کارگاه آموزشی مدرسان کارورزی(</a:t>
            </a:r>
            <a:r>
              <a:rPr b="0" lang="fa-IR" sz="1800" spc="-1" strike="noStrike">
                <a:solidFill>
                  <a:srgbClr val="138677"/>
                </a:solidFill>
                <a:latin typeface="Perpetua"/>
                <a:ea typeface="B Titr"/>
              </a:rPr>
              <a:t>4</a:t>
            </a:r>
            <a:r>
              <a:rPr b="0" lang="fa-IR" sz="1800" spc="-1" strike="noStrike">
                <a:solidFill>
                  <a:srgbClr val="138677"/>
                </a:solidFill>
                <a:latin typeface="Perpetua"/>
                <a:ea typeface="B Titr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38677"/>
                </a:solidFill>
                <a:latin typeface="Perpetua"/>
                <a:cs typeface="B Titr"/>
              </a:rPr>
              <a:t>دی ماه </a:t>
            </a:r>
            <a:r>
              <a:rPr b="0" lang="fa-IR" sz="1800" spc="-1" strike="noStrike">
                <a:solidFill>
                  <a:srgbClr val="138677"/>
                </a:solidFill>
                <a:latin typeface="Perpetua"/>
                <a:ea typeface="B Titr"/>
              </a:rPr>
              <a:t>139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بسم الله الرحمن الرحیم</a:t>
            </a:r>
            <a:endParaRPr b="0" lang="en-US" sz="54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نقشه های ذه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62" name="Subtitle 2"/>
          <p:cNvGrpSpPr/>
          <p:nvPr/>
        </p:nvGrpSpPr>
        <p:grpSpPr>
          <a:xfrm>
            <a:off x="1133640" y="3114720"/>
            <a:ext cx="6651360" cy="3371760"/>
            <a:chOff x="1133640" y="3114720"/>
            <a:chExt cx="6651360" cy="3371760"/>
          </a:xfrm>
        </p:grpSpPr>
        <p:pic>
          <p:nvPicPr>
            <p:cNvPr id="263" name="Subtitle 2" descr=""/>
            <p:cNvPicPr/>
            <p:nvPr/>
          </p:nvPicPr>
          <p:blipFill>
            <a:blip r:embed="rId1"/>
            <a:stretch/>
          </p:blipFill>
          <p:spPr>
            <a:xfrm>
              <a:off x="1133640" y="3114720"/>
              <a:ext cx="665136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295280" y="3200400"/>
              <a:ext cx="64008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600" spc="-1" strike="noStrike">
                  <a:solidFill>
                    <a:srgbClr val="00b050"/>
                  </a:solidFill>
                  <a:latin typeface="Perpetua"/>
                  <a:cs typeface="B Titr"/>
                </a:rPr>
                <a:t>نقشه هاي ذهنی روشي براي بازنمايي بصري اطلاعات هستند.</a:t>
              </a:r>
              <a:endParaRPr b="0" lang="en-US" sz="26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600" spc="-1" strike="noStrike">
                  <a:solidFill>
                    <a:srgbClr val="00b050"/>
                  </a:solidFill>
                  <a:latin typeface="Perpetua"/>
                  <a:cs typeface="B Titr"/>
                </a:rPr>
                <a:t>تهیه نقشه ي ذهنی به ما كمك مي كند تا اطلاعاتي را كه از قبل درباره ي يك موضوع مي دانيم روي هم بگذاريم و مطلب جديد را، همچنان كه آن را ياد مي گيريم، درک کنیم. </a:t>
              </a:r>
              <a:endParaRPr b="0" lang="en-US" sz="26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10"/>
          <p:cNvSpPr/>
          <p:nvPr/>
        </p:nvSpPr>
        <p:spPr>
          <a:xfrm>
            <a:off x="1981080" y="1219320"/>
            <a:ext cx="1981440" cy="1600200"/>
          </a:xfrm>
          <a:prstGeom prst="ellipse">
            <a:avLst/>
          </a:prstGeom>
          <a:solidFill>
            <a:srgbClr val="7fd13b"/>
          </a:solidFill>
          <a:ln w="1260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236232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Perpetua"/>
                <a:cs typeface="B Titr"/>
              </a:rPr>
              <a:t>موجود زنده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4876920" y="2666880"/>
            <a:ext cx="838080" cy="838440"/>
          </a:xfrm>
          <a:prstGeom prst="ellipse">
            <a:avLst/>
          </a:prstGeom>
          <a:solidFill>
            <a:srgbClr val="7fd13b"/>
          </a:solidFill>
          <a:ln w="1260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4952880" y="2895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Perpetua"/>
                <a:cs typeface="B Titr"/>
              </a:rPr>
              <a:t>گیاه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69" name="Straight Arrow Connector 15"/>
          <p:cNvCxnSpPr>
            <a:stCxn id="265" idx="5"/>
          </p:cNvCxnSpPr>
          <p:nvPr/>
        </p:nvCxnSpPr>
        <p:spPr>
          <a:xfrm>
            <a:off x="3671640" y="2584440"/>
            <a:ext cx="1129320" cy="388080"/>
          </a:xfrm>
          <a:prstGeom prst="straightConnector1">
            <a:avLst/>
          </a:prstGeom>
          <a:ln w="28440">
            <a:solidFill>
              <a:srgbClr val="63ac27"/>
            </a:solidFill>
            <a:miter/>
            <a:tailEnd len="med" type="arrow" w="med"/>
          </a:ln>
        </p:spPr>
      </p:cxnSp>
      <p:sp>
        <p:nvSpPr>
          <p:cNvPr id="270" name="Oval 16"/>
          <p:cNvSpPr/>
          <p:nvPr/>
        </p:nvSpPr>
        <p:spPr>
          <a:xfrm>
            <a:off x="2514600" y="3429000"/>
            <a:ext cx="838080" cy="838080"/>
          </a:xfrm>
          <a:prstGeom prst="ellipse">
            <a:avLst/>
          </a:prstGeom>
          <a:solidFill>
            <a:srgbClr val="7fd13b"/>
          </a:solidFill>
          <a:ln w="1260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71" name="Straight Arrow Connector 17"/>
          <p:cNvCxnSpPr>
            <a:stCxn id="265" idx="3"/>
            <a:endCxn id="270" idx="0"/>
          </p:cNvCxnSpPr>
          <p:nvPr/>
        </p:nvCxnSpPr>
        <p:spPr>
          <a:xfrm>
            <a:off x="2271240" y="2584440"/>
            <a:ext cx="662760" cy="845280"/>
          </a:xfrm>
          <a:prstGeom prst="straightConnector1">
            <a:avLst/>
          </a:prstGeom>
          <a:ln w="28440">
            <a:solidFill>
              <a:srgbClr val="63ac2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Marziyeh\Desktop\mm_health.jpg"/>
          <p:cNvPicPr/>
          <p:nvPr/>
        </p:nvPicPr>
        <p:blipFill>
          <a:blip r:embed="rId1"/>
          <a:stretch/>
        </p:blipFill>
        <p:spPr>
          <a:xfrm>
            <a:off x="-304920" y="-1447920"/>
            <a:ext cx="975384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واحد یادگیر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3200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یک واحد یادگیری عبارت است از چند رویداد یادگیری به هم مرتبط و معنادار که با ارائه‌ی آن دانش آموز می‌تواند به شایستگی مهمی دست یابد</a:t>
            </a:r>
            <a:r>
              <a:rPr b="0" lang="fa-IR" sz="2800" spc="-1" strike="noStrike">
                <a:solidFill>
                  <a:srgbClr val="0070c0"/>
                </a:solidFill>
                <a:latin typeface="Perpetua"/>
                <a:ea typeface="B Titr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3399"/>
                </a:solidFill>
                <a:latin typeface="Perpetua"/>
                <a:cs typeface="B Titr"/>
              </a:rPr>
              <a:t>هدف از طراحی یک واحد یادگیری آن است که یادگیرنده بتواند از آنچه یاد می‌گیرد معنای تازه‏ای بسازد و آنچه آموخته است را با استقلال و اثربخشی روز افزون در موقعیت های پیچیده ی جهان واقعی به کار ببرد</a:t>
            </a:r>
            <a:r>
              <a:rPr b="0" lang="fa-IR" sz="2800" spc="-1" strike="noStrike">
                <a:solidFill>
                  <a:srgbClr val="ff3399"/>
                </a:solidFill>
                <a:latin typeface="Perpetua"/>
                <a:ea typeface="B Tit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Subtitle 4" descr=""/>
          <p:cNvPicPr/>
          <p:nvPr/>
        </p:nvPicPr>
        <p:blipFill>
          <a:blip r:embed="rId1"/>
          <a:stretch/>
        </p:blipFill>
        <p:spPr>
          <a:xfrm>
            <a:off x="1279440" y="3097080"/>
            <a:ext cx="6426360" cy="33163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آشنایی با اصطلاحات در طراحی واحد یادگیری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Content Placeholder 2" descr=""/>
          <p:cNvPicPr/>
          <p:nvPr/>
        </p:nvPicPr>
        <p:blipFill>
          <a:blip r:embed="rId1"/>
          <a:stretch/>
        </p:blipFill>
        <p:spPr>
          <a:xfrm>
            <a:off x="1279440" y="3157560"/>
            <a:ext cx="6529320" cy="29512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تحلیل متن آموزش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380520" y="3200040"/>
            <a:ext cx="8077320" cy="2438280"/>
          </a:xfrm>
          <a:prstGeom prst="rect">
            <a:avLst/>
          </a:prstGeom>
          <a:solidFill>
            <a:srgbClr val="0082a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6d8"/>
                </a:solidFill>
                <a:latin typeface="Perpetua"/>
                <a:cs typeface="B Titr"/>
              </a:rPr>
              <a:t>شناسایی ایده های کلیدی/ مفاهیم و مهارت های اساسی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6d8"/>
                </a:solidFill>
                <a:latin typeface="Perpetua"/>
                <a:cs typeface="B Titr"/>
              </a:rPr>
              <a:t>شناسایی قوانین/ قواعد/ اصول/ تعمیم ها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5f6d8"/>
                </a:solidFill>
                <a:latin typeface="Perpetua"/>
                <a:cs typeface="B Titr"/>
              </a:rPr>
              <a:t>شناسایی حقایق و اطلاعات جزئی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حتوا در برنامه درسی(کتاب درسی)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Franklin Gothic Book"/>
                <a:cs typeface="B Titr"/>
              </a:rPr>
              <a:t>شایستگی ها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82" name="Content Placeholder 2"/>
          <p:cNvGrpSpPr/>
          <p:nvPr/>
        </p:nvGrpSpPr>
        <p:grpSpPr>
          <a:xfrm>
            <a:off x="-353880" y="1554120"/>
            <a:ext cx="9248760" cy="5505480"/>
            <a:chOff x="-353880" y="1554120"/>
            <a:chExt cx="9248760" cy="5505480"/>
          </a:xfrm>
        </p:grpSpPr>
        <p:pic>
          <p:nvPicPr>
            <p:cNvPr id="283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-353880" y="1554120"/>
              <a:ext cx="9248760" cy="55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28600" y="1600200"/>
              <a:ext cx="861048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rtl="1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just" rtl="1">
                <a:lnSpc>
                  <a:spcPct val="90000"/>
                </a:lnSpc>
                <a:spcBef>
                  <a:spcPts val="575"/>
                </a:spcBef>
                <a:buClr>
                  <a:srgbClr val="ff0000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100" spc="-1" strike="noStrike">
                  <a:solidFill>
                    <a:srgbClr val="ff0000"/>
                  </a:solidFill>
                  <a:latin typeface="Perpetua"/>
                  <a:cs typeface="B Titr"/>
                </a:rPr>
                <a:t>تلفیق پذیر: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یک شایستگی تلفیق منسجمی از عناصر مورد نیاز برای حل مساله های تربیتی است. </a:t>
              </a:r>
              <a:endParaRPr b="0" lang="en-US" sz="31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just" rtl="1">
                <a:lnSpc>
                  <a:spcPct val="90000"/>
                </a:lnSpc>
                <a:spcBef>
                  <a:spcPts val="575"/>
                </a:spcBef>
                <a:buClr>
                  <a:srgbClr val="ff0000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100" spc="-1" strike="noStrike">
                  <a:solidFill>
                    <a:srgbClr val="ff0000"/>
                  </a:solidFill>
                  <a:latin typeface="Perpetua"/>
                  <a:cs typeface="B Titr"/>
                </a:rPr>
                <a:t>پایدار: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یک ویژگی شایستگی تداوم، پایداری و قابلیت توسعه آن در گذر زمان است. اهداف متکی بر محتوا (برای مثال دانش و مهارت ) با گذشت زمان تغییر می کند</a:t>
              </a:r>
              <a:r>
                <a:rPr b="1" lang="en-US" sz="31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.</a:t>
              </a:r>
              <a:endParaRPr b="0" lang="en-US" sz="31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just" rtl="1">
                <a:lnSpc>
                  <a:spcPct val="90000"/>
                </a:lnSpc>
                <a:spcBef>
                  <a:spcPts val="575"/>
                </a:spcBef>
                <a:buClr>
                  <a:srgbClr val="ff0000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100" spc="-1" strike="noStrike">
                  <a:solidFill>
                    <a:srgbClr val="ff0000"/>
                  </a:solidFill>
                  <a:latin typeface="Perpetua"/>
                  <a:cs typeface="B Titr"/>
                </a:rPr>
                <a:t>خاص بودن: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شایستگی ها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ترکیبی از مهارت های شناختی و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فراشناختی،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مهارت ها، دانش (دانش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آشکار و دانش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ضمنی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)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انگیزش، ارزش ها، نگرش ها، هیجا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ن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ات و رفتار های اجتماعی که برای انجام یک عمل 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حرفه‏ای 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cs typeface="B Titr"/>
                </a:rPr>
                <a:t>در زمینه</a:t>
              </a:r>
              <a:r>
                <a:rPr b="1" lang="fa-IR" sz="31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‏ای</a:t>
              </a:r>
              <a:r>
                <a:rPr b="1" lang="ar-SA" sz="3100" spc="-1" strike="noStrike">
                  <a:solidFill>
                    <a:srgbClr val="ffffff"/>
                  </a:solidFill>
                  <a:latin typeface="Perpetua"/>
                  <a:ea typeface="B Titr"/>
                </a:rPr>
                <a:t> خاصی بسیج می شوند</a:t>
              </a:r>
              <a:endParaRPr b="0" lang="en-US" sz="31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1" descr=""/>
          <p:cNvPicPr/>
          <p:nvPr/>
        </p:nvPicPr>
        <p:blipFill>
          <a:blip r:embed="rId1"/>
          <a:stretch/>
        </p:blipFill>
        <p:spPr>
          <a:xfrm>
            <a:off x="669960" y="255600"/>
            <a:ext cx="780408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86" name="Content Placeholder 2"/>
          <p:cNvGrpSpPr/>
          <p:nvPr/>
        </p:nvGrpSpPr>
        <p:grpSpPr>
          <a:xfrm>
            <a:off x="554040" y="1536840"/>
            <a:ext cx="8126280" cy="5735520"/>
            <a:chOff x="554040" y="1536840"/>
            <a:chExt cx="8126280" cy="5735520"/>
          </a:xfrm>
        </p:grpSpPr>
        <p:pic>
          <p:nvPicPr>
            <p:cNvPr id="287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554040" y="1536840"/>
              <a:ext cx="8126280" cy="57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85800" y="1752480"/>
              <a:ext cx="77724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شایستگی</a:t>
              </a: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یادگیری باید شامل: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موقعیت/ مسئله‏ای که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منجر به ساخت معنی </a:t>
              </a: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از سوی </a:t>
              </a: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دانش آموز می شود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و می تواند یادگیری رابه موقعیت جدید انتقال دهد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توانایی ها/ قابلیت های یادگیرنده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،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ملاک های ارزیابی عملکرد (شواهد)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300" spc="-1" strike="noStrike">
                  <a:solidFill>
                    <a:srgbClr val="000000"/>
                  </a:solidFill>
                  <a:latin typeface="Perpetua"/>
                  <a:cs typeface="B Titr"/>
                </a:rPr>
                <a:t>سطح عملکرد (کیفت/ کمیت)/ تولید مورد انتظار</a:t>
              </a:r>
              <a:r>
                <a:rPr b="0" lang="fa-IR" sz="3300" spc="-1" strike="noStrike">
                  <a:solidFill>
                    <a:srgbClr val="000000"/>
                  </a:solidFill>
                  <a:latin typeface="Perpetua"/>
                  <a:ea typeface="B Titr"/>
                </a:rPr>
                <a:t> (آنچه پیش بینی شده و آن برآمده از موقعیت است)</a:t>
              </a: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buClr>
                  <a:srgbClr val="835e01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  <a:p>
              <a:pPr marL="272880" indent="-272880" algn="r">
                <a:lnSpc>
                  <a:spcPct val="90000"/>
                </a:lnSpc>
                <a:spcBef>
                  <a:spcPts val="575"/>
                </a:spcBef>
                <a:buClr>
                  <a:srgbClr val="7fd13b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با درک مسئولیت ها در قبال سلامت و بهداشت جامعه، در برنامه های ارتقای سلامت/ تفریحات سالم/ سالم سازی محیط زیست مشارکت ‏کند و بر اساس نتایج آن برای حفظ/ارتقاء سلامت در زندگی خود تصمیم گیری نماید</a:t>
            </a:r>
            <a:r>
              <a:rPr b="0" lang="fa-IR" sz="2800" spc="-1" strike="noStrike">
                <a:solidFill>
                  <a:srgbClr val="00b050"/>
                </a:solidFill>
                <a:latin typeface="Perpetu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اسناد قانو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38" name="Subtitle 4"/>
          <p:cNvGrpSpPr/>
          <p:nvPr/>
        </p:nvGrpSpPr>
        <p:grpSpPr>
          <a:xfrm>
            <a:off x="347760" y="1219320"/>
            <a:ext cx="8454960" cy="5010120"/>
            <a:chOff x="347760" y="1219320"/>
            <a:chExt cx="8454960" cy="5010120"/>
          </a:xfrm>
        </p:grpSpPr>
        <p:pic>
          <p:nvPicPr>
            <p:cNvPr id="239" name="Subtitle 4" descr=""/>
            <p:cNvPicPr/>
            <p:nvPr/>
          </p:nvPicPr>
          <p:blipFill>
            <a:blip r:embed="rId1"/>
            <a:stretch/>
          </p:blipFill>
          <p:spPr>
            <a:xfrm>
              <a:off x="347760" y="1219320"/>
              <a:ext cx="845496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09480" y="1523880"/>
              <a:ext cx="8001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 baseline="30000">
                  <a:solidFill>
                    <a:srgbClr val="fff1ce"/>
                  </a:solidFill>
                  <a:latin typeface="Perpetua"/>
                  <a:ea typeface="B Titr"/>
                </a:rPr>
                <a:t>-</a:t>
              </a:r>
              <a:endParaRPr b="0" lang="en-US" sz="3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lnSpc>
                  <a:spcPct val="15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 baseline="30000">
                  <a:solidFill>
                    <a:srgbClr val="fff1ce"/>
                  </a:solidFill>
                  <a:latin typeface="Perpetua"/>
                  <a:cs typeface="B Titr"/>
                </a:rPr>
                <a:t>هدف عملیاتی </a:t>
              </a:r>
              <a:r>
                <a:rPr b="0" lang="fa-IR" sz="3000" spc="-1" strike="noStrike" baseline="30000">
                  <a:solidFill>
                    <a:srgbClr val="fff1ce"/>
                  </a:solidFill>
                  <a:latin typeface="Perpetua"/>
                  <a:ea typeface="B Titr"/>
                </a:rPr>
                <a:t>11</a:t>
              </a:r>
              <a:r>
                <a:rPr b="0" lang="fa-IR" sz="3000" spc="-1" strike="noStrike" baseline="30000">
                  <a:solidFill>
                    <a:srgbClr val="fff1ce"/>
                  </a:solidFill>
                  <a:latin typeface="Perpetua"/>
                  <a:ea typeface="B Titr"/>
                </a:rPr>
                <a:t> سند تحول</a:t>
              </a:r>
              <a:endParaRPr b="0" lang="en-US" sz="3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lnSpc>
                  <a:spcPct val="15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600" spc="-1" strike="noStrike">
                  <a:solidFill>
                    <a:srgbClr val="fff1ce"/>
                  </a:solidFill>
                  <a:latin typeface="Perpetua"/>
                  <a:ea typeface="B Titr"/>
                </a:rPr>
                <a:t>«بازمهندسی سیاست‌ها و </a:t>
              </a:r>
              <a:r>
                <a:rPr b="1" lang="ar-SA" sz="2600" spc="-1" strike="noStrike">
                  <a:solidFill>
                    <a:srgbClr val="fff1ce"/>
                  </a:solidFill>
                  <a:latin typeface="Perpetua"/>
                  <a:cs typeface="B Titr"/>
                </a:rPr>
                <a:t>بازتنظیم اصول حاکم بر برنامه‌ درسی تربیت معلم</a:t>
              </a:r>
              <a:r>
                <a:rPr b="0" lang="ar-SA" sz="2600" spc="-1" strike="noStrike">
                  <a:solidFill>
                    <a:srgbClr val="fff1ce"/>
                  </a:solidFill>
                  <a:latin typeface="Perpetua"/>
                  <a:ea typeface="B Titr"/>
                </a:rPr>
                <a:t> با تأکید بر </a:t>
              </a:r>
              <a:r>
                <a:rPr b="1" lang="ar-SA" sz="2600" spc="-1" strike="noStrike">
                  <a:solidFill>
                    <a:srgbClr val="fff1ce"/>
                  </a:solidFill>
                  <a:latin typeface="Perpetua"/>
                  <a:cs typeface="B Titr"/>
                </a:rPr>
                <a:t>کارورزی</a:t>
              </a:r>
              <a:r>
                <a:rPr b="0" lang="ar-SA" sz="2600" spc="-1" strike="noStrike">
                  <a:solidFill>
                    <a:srgbClr val="fff1ce"/>
                  </a:solidFill>
                  <a:latin typeface="Perpetua"/>
                  <a:ea typeface="B Titr"/>
                </a:rPr>
                <a:t> و </a:t>
              </a:r>
              <a:r>
                <a:rPr b="1" lang="ar-SA" sz="2600" spc="-1" strike="noStrike">
                  <a:solidFill>
                    <a:srgbClr val="fff1ce"/>
                  </a:solidFill>
                  <a:latin typeface="Perpetua"/>
                  <a:cs typeface="B Titr"/>
                </a:rPr>
                <a:t>انطباق </a:t>
              </a:r>
              <a:r>
                <a:rPr b="1" lang="ar-SA" sz="2600" spc="-1" strike="noStrike" u="sng">
                  <a:solidFill>
                    <a:srgbClr val="fff1ce"/>
                  </a:solidFill>
                  <a:uFillTx/>
                  <a:latin typeface="Perpetua"/>
                  <a:cs typeface="B Titr"/>
                </a:rPr>
                <a:t>سطح شایستگی‌های </a:t>
              </a:r>
              <a:r>
                <a:rPr b="1" lang="ar-SA" sz="2600" spc="-1" strike="noStrike">
                  <a:solidFill>
                    <a:srgbClr val="fff1ce"/>
                  </a:solidFill>
                  <a:latin typeface="Perpetua"/>
                  <a:cs typeface="B Titr"/>
                </a:rPr>
                <a:t>حرفه‌ای معلمان در سطح ملی و جهانی با مقتضیات الگوی برنامه درسی در نظام تعلیم و تربیت</a:t>
              </a:r>
              <a:r>
                <a:rPr b="0" lang="ar-SA" sz="2600" spc="-1" strike="noStrike">
                  <a:solidFill>
                    <a:srgbClr val="fff1ce"/>
                  </a:solidFill>
                  <a:latin typeface="Perpetua"/>
                  <a:ea typeface="B Titr"/>
                </a:rPr>
                <a:t> و طراحی سیاست‌های مناسب برای ارتقای شیوه‌های جذب، تربیت و نگهداشت معلمان در آموزش و پرورش». </a:t>
              </a:r>
              <a:endParaRPr b="0" lang="en-US" sz="26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785880" y="158760"/>
            <a:ext cx="8023320" cy="1395360"/>
          </a:xfrm>
          <a:prstGeom prst="rect">
            <a:avLst/>
          </a:prstGeom>
          <a:ln w="0">
            <a:noFill/>
          </a:ln>
        </p:spPr>
      </p:pic>
      <p:pic>
        <p:nvPicPr>
          <p:cNvPr id="292" name="TextBox 3" descr=""/>
          <p:cNvPicPr/>
          <p:nvPr/>
        </p:nvPicPr>
        <p:blipFill>
          <a:blip r:embed="rId2"/>
          <a:stretch/>
        </p:blipFill>
        <p:spPr>
          <a:xfrm>
            <a:off x="225360" y="1427040"/>
            <a:ext cx="885204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785880" y="158760"/>
            <a:ext cx="8023320" cy="1395360"/>
          </a:xfrm>
          <a:prstGeom prst="rect">
            <a:avLst/>
          </a:prstGeom>
          <a:ln w="0">
            <a:noFill/>
          </a:ln>
        </p:spPr>
      </p:pic>
      <p:pic>
        <p:nvPicPr>
          <p:cNvPr id="294" name="TextBox 3" descr=""/>
          <p:cNvPicPr/>
          <p:nvPr/>
        </p:nvPicPr>
        <p:blipFill>
          <a:blip r:embed="rId2"/>
          <a:stretch/>
        </p:blipFill>
        <p:spPr>
          <a:xfrm>
            <a:off x="-6480" y="1859040"/>
            <a:ext cx="90838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785880" y="64620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ea typeface="B Titr"/>
              </a:rPr>
              <a:t>«چگونه موج رفتار موجی نشان می دهد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ea typeface="B Titr"/>
              </a:rPr>
              <a:t>«چگونه نویسنده های معروف خوانندگانشان را روی داستان میخکوب می کنند؟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ea typeface="B Titr"/>
              </a:rPr>
              <a:t>«چه مدلی چرخه اقتصادی را بهتر نشان می دهد؟»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Content Placeholder 2" descr=""/>
          <p:cNvPicPr/>
          <p:nvPr/>
        </p:nvPicPr>
        <p:blipFill>
          <a:blip r:embed="rId1"/>
          <a:stretch/>
        </p:blipFill>
        <p:spPr>
          <a:xfrm>
            <a:off x="658800" y="3041640"/>
            <a:ext cx="7656480" cy="35971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ایده کلید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ساختار و عملکرد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cs typeface="B Titr"/>
              </a:rPr>
              <a:t>سیستم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الگو ها و روابط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fe8d6"/>
                </a:solidFill>
                <a:latin typeface="Perpetua"/>
                <a:cs typeface="B Titr"/>
              </a:rPr>
              <a:t>سلامت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Content Placeholder 2" descr=""/>
          <p:cNvPicPr/>
          <p:nvPr/>
        </p:nvPicPr>
        <p:blipFill>
          <a:blip r:embed="rId1"/>
          <a:stretch/>
        </p:blipFill>
        <p:spPr>
          <a:xfrm>
            <a:off x="1054080" y="3486240"/>
            <a:ext cx="6632640" cy="29271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فاهیم اساس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موج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cce0c"/>
                </a:solidFill>
                <a:latin typeface="Perpetua"/>
                <a:cs typeface="B Titr"/>
              </a:rPr>
              <a:t>ناحیه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عدد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3399"/>
                </a:solidFill>
                <a:latin typeface="Perpetua"/>
                <a:cs typeface="B Titr"/>
              </a:rPr>
              <a:t>تورّم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1daff"/>
                </a:solidFill>
                <a:latin typeface="Perpetua"/>
                <a:cs typeface="B Titr"/>
              </a:rPr>
              <a:t>اکوسیستم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ae2c83"/>
                </a:solidFill>
                <a:latin typeface="Perpetua"/>
                <a:cs typeface="B Titr"/>
              </a:rPr>
              <a:t>جنبش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Content Placeholder 2" descr=""/>
          <p:cNvPicPr/>
          <p:nvPr/>
        </p:nvPicPr>
        <p:blipFill>
          <a:blip r:embed="rId1"/>
          <a:stretch/>
        </p:blipFill>
        <p:spPr>
          <a:xfrm>
            <a:off x="1017720" y="3181320"/>
            <a:ext cx="6840360" cy="27748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هارت های اساس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محاسبه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cs typeface="B Titr"/>
              </a:rPr>
              <a:t>ترسیم نقشه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تصمیم گیری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fe8d6"/>
                </a:solidFill>
                <a:latin typeface="Perpetua"/>
                <a:cs typeface="B Titr"/>
              </a:rPr>
              <a:t>گوش دادن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785880" y="341280"/>
            <a:ext cx="8023320" cy="139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Perpetua"/>
                <a:cs typeface="B Titr"/>
              </a:rPr>
              <a:t>اصل: انبساط و انقباض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Perpetua"/>
                <a:cs typeface="B Titr"/>
              </a:rPr>
              <a:t>تعمیم: فلزات در اثر حرات منبسط می شوند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اطلاعات جزئی: فاصله زمین تا خورشید </a:t>
            </a:r>
            <a:r>
              <a:rPr b="0" lang="fa-IR" sz="2800" spc="-1" strike="noStrike">
                <a:solidFill>
                  <a:srgbClr val="00b050"/>
                </a:solidFill>
                <a:latin typeface="Perpetua"/>
                <a:cs typeface="B Titr"/>
              </a:rPr>
              <a:t>یک واحد نجومی است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fe8d6"/>
                </a:solidFill>
                <a:latin typeface="Perpetua"/>
                <a:cs typeface="B Titr"/>
              </a:rPr>
              <a:t>قاعده: ساخت فعل مضارع از بن فعل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اسناد قانو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7772400" cy="4572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ea typeface="B Titr"/>
              </a:rPr>
              <a:t>-</a:t>
            </a:r>
            <a:endParaRPr b="0" lang="en-US" sz="46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cs typeface="B Titr"/>
              </a:rPr>
              <a:t>هدف عملیاتی </a:t>
            </a: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ea typeface="B Titr"/>
              </a:rPr>
              <a:t>11</a:t>
            </a: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ea typeface="B Titr"/>
              </a:rPr>
              <a:t> سند تحول</a:t>
            </a:r>
            <a:endParaRPr b="0" lang="en-US" sz="46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600" spc="-1" strike="noStrike" baseline="30000">
                <a:solidFill>
                  <a:srgbClr val="fff1ce"/>
                </a:solidFill>
                <a:latin typeface="Perpetua"/>
                <a:cs typeface="B Titr"/>
              </a:rPr>
              <a:t>استقرار سازوکارهای</a:t>
            </a:r>
            <a:r>
              <a:rPr b="0" lang="fa-IR" sz="4600" spc="-1" strike="noStrike">
                <a:solidFill>
                  <a:srgbClr val="fff1ce"/>
                </a:solidFill>
                <a:latin typeface="Perpetua"/>
                <a:ea typeface="B Titr"/>
              </a:rPr>
              <a:t> ارتقای توانمندی های معلمان برای مشارکت مؤثر آنان در برنامه‏ریزی درسی در سطح مدرسه، به ویژه سازوکار هایی که به تقویت هویت حرقه‏ای آنان می‏انجامد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. (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6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-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11</a:t>
            </a:r>
            <a:r>
              <a:rPr b="0" lang="fa-IR" sz="1200" spc="-1" strike="noStrike">
                <a:solidFill>
                  <a:srgbClr val="fff1ce"/>
                </a:solidFill>
                <a:latin typeface="Perpetua"/>
                <a:ea typeface="B Titr"/>
              </a:rPr>
              <a:t>)</a:t>
            </a:r>
            <a:r>
              <a:rPr b="0" lang="fa-IR" sz="4600" spc="-1" strike="noStrike">
                <a:solidFill>
                  <a:srgbClr val="fff1ce"/>
                </a:solidFill>
                <a:latin typeface="Perpetua"/>
                <a:ea typeface="B Titr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2d050"/>
                </a:solidFill>
                <a:latin typeface="Franklin Gothic Book"/>
                <a:cs typeface="B Titr"/>
              </a:rPr>
              <a:t>شواهد یادگیری مطلوب کدامند؟</a:t>
            </a:r>
            <a:br>
              <a:rPr sz="3600"/>
            </a:br>
            <a:r>
              <a:rPr b="1" lang="ar-SA" sz="3600" spc="-1" strike="noStrike">
                <a:solidFill>
                  <a:srgbClr val="92d050"/>
                </a:solidFill>
                <a:latin typeface="Franklin Gothic Book"/>
                <a:ea typeface="B Titr"/>
              </a:rPr>
              <a:t> 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به طور خاص چه </a:t>
            </a:r>
            <a:r>
              <a:rPr b="1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شواهد</a:t>
            </a: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ی حاکی از </a:t>
            </a:r>
            <a:r>
              <a:rPr b="1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درک</a:t>
            </a: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ea typeface="B Titr"/>
              </a:rPr>
              <a:t> </a:t>
            </a:r>
            <a:r>
              <a:rPr b="1" lang="fa-IR" sz="36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عمیق</a:t>
            </a:r>
            <a:r>
              <a:rPr b="1" lang="ar-SA" sz="3600" spc="-1" strike="noStrike">
                <a:solidFill>
                  <a:srgbClr val="ffffff"/>
                </a:solidFill>
                <a:latin typeface="Franklin Gothic Book"/>
                <a:ea typeface="B Titr"/>
              </a:rPr>
              <a:t> است؟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80520" y="304776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b050"/>
                </a:solidFill>
                <a:latin typeface="Perpetua"/>
                <a:cs typeface="B Titr"/>
              </a:rPr>
              <a:t>چگونه می توان فهمید که دانش آموز به نتایج مطلوب و استانداردها در برنامه درسی دست یافته اند؟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4e5b6f"/>
                </a:solidFill>
                <a:latin typeface="Perpetua"/>
                <a:ea typeface="B Titr"/>
              </a:rPr>
              <a:t> </a:t>
            </a:r>
            <a:r>
              <a:rPr b="0" lang="fa-IR" sz="3500" spc="-1" strike="noStrike">
                <a:solidFill>
                  <a:srgbClr val="ff0000"/>
                </a:solidFill>
                <a:latin typeface="Perpetua"/>
                <a:cs typeface="B Titr"/>
              </a:rPr>
              <a:t>چگونه می توان دریافت که دانش آموز "ایده کلید" را به درستی درک کرده اند؟ 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70c0"/>
                </a:solidFill>
                <a:latin typeface="Perpetua"/>
                <a:cs typeface="B Titr"/>
              </a:rPr>
              <a:t>چه شواهدی دست یابی دانش آموز به تمام شایستگی ها را تایید می کند؟ 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320" y="1371240"/>
            <a:ext cx="8991360" cy="1600200"/>
          </a:xfrm>
          <a:prstGeom prst="rect">
            <a:avLst/>
          </a:prstGeom>
          <a:solidFill>
            <a:srgbClr val="caf7f1"/>
          </a:solidFill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435faa"/>
                </a:solidFill>
                <a:latin typeface="Franklin Gothic Book"/>
                <a:cs typeface="B Titr"/>
              </a:rPr>
              <a:t>ويژگي هاي تکالیف عملكرد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314" name="Diagram 4" descr=""/>
          <p:cNvPicPr/>
          <p:nvPr/>
        </p:nvPicPr>
        <p:blipFill>
          <a:blip r:embed="rId1"/>
          <a:stretch/>
        </p:blipFill>
        <p:spPr>
          <a:xfrm>
            <a:off x="596880" y="2932200"/>
            <a:ext cx="79138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Title 3"/>
          <p:cNvGrpSpPr/>
          <p:nvPr/>
        </p:nvGrpSpPr>
        <p:grpSpPr>
          <a:xfrm>
            <a:off x="-55440" y="195120"/>
            <a:ext cx="9235800" cy="2865600"/>
            <a:chOff x="-55440" y="195120"/>
            <a:chExt cx="9235800" cy="2865600"/>
          </a:xfrm>
        </p:grpSpPr>
        <p:pic>
          <p:nvPicPr>
            <p:cNvPr id="316" name="Title 3" descr=""/>
            <p:cNvPicPr/>
            <p:nvPr/>
          </p:nvPicPr>
          <p:blipFill>
            <a:blip r:embed="rId1"/>
            <a:stretch/>
          </p:blipFill>
          <p:spPr>
            <a:xfrm>
              <a:off x="-55440" y="195120"/>
              <a:ext cx="923580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6320" y="228600"/>
              <a:ext cx="89913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چه </a:t>
              </a:r>
              <a:r>
                <a:rPr b="1" lang="fa-IR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آ</a:t>
              </a:r>
              <a:r>
                <a:rPr b="1" lang="ar-SA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موزش و فعالیت های یادگیری شایستگی </a:t>
              </a:r>
              <a:r>
                <a:rPr b="1" lang="fa-IR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های او </a:t>
              </a:r>
              <a:r>
                <a:rPr b="1" lang="ar-SA" sz="4000" spc="-1" strike="noStrike">
                  <a:solidFill>
                    <a:srgbClr val="ffc000"/>
                  </a:solidFill>
                  <a:latin typeface="Franklin Gothic Book"/>
                  <a:cs typeface="Tahoma"/>
                </a:rPr>
                <a:t>را رشد می دهد؟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318" name="Subtitle 4" descr=""/>
          <p:cNvPicPr/>
          <p:nvPr/>
        </p:nvPicPr>
        <p:blipFill>
          <a:blip r:embed="rId2"/>
          <a:stretch/>
        </p:blipFill>
        <p:spPr>
          <a:xfrm>
            <a:off x="822240" y="3333600"/>
            <a:ext cx="68835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4ddd4"/>
                </a:solidFill>
                <a:latin typeface="Franklin Gothic Book"/>
                <a:cs typeface="B Titr"/>
              </a:rPr>
              <a:t>انواع فعالیت های یادگیر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320" name="Subtitle 4" descr=""/>
          <p:cNvPicPr/>
          <p:nvPr/>
        </p:nvPicPr>
        <p:blipFill>
          <a:blip r:embed="rId1"/>
          <a:stretch/>
        </p:blipFill>
        <p:spPr>
          <a:xfrm>
            <a:off x="1279440" y="3181320"/>
            <a:ext cx="6426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برقراری ارتباط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تجربه کردن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بکاربستن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به اشتراک گذاشتن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8e3054"/>
                </a:solidFill>
                <a:latin typeface="Perpetua"/>
                <a:cs typeface="B Titr"/>
              </a:rPr>
              <a:t>انتقال به موقعیت جدید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مراحل یادگیر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662940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سنجش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53352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آموزش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2362320" y="1295280"/>
            <a:ext cx="4495680" cy="4114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8dae6"/>
              </a:gs>
              <a:gs pos="100000">
                <a:srgbClr val="06acb0"/>
              </a:gs>
            </a:gsLst>
            <a:lin ang="5400000"/>
          </a:gra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581280" y="914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برنامه درس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3278160" y="3954240"/>
            <a:ext cx="2665440" cy="649800"/>
          </a:xfrm>
          <a:prstGeom prst="ellipse">
            <a:avLst/>
          </a:prstGeom>
          <a:solidFill>
            <a:srgbClr val="d4e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66"/>
                </a:solidFill>
                <a:latin typeface="Arial"/>
                <a:cs typeface="B Titr"/>
              </a:rPr>
              <a:t>شایستگ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Line 8"/>
          <p:cNvSpPr/>
          <p:nvPr/>
        </p:nvSpPr>
        <p:spPr>
          <a:xfrm flipH="1">
            <a:off x="2057040" y="1447920"/>
            <a:ext cx="2133720" cy="3657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2286000" y="5638680"/>
            <a:ext cx="46483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Line 10"/>
          <p:cNvSpPr/>
          <p:nvPr/>
        </p:nvSpPr>
        <p:spPr>
          <a:xfrm flipH="1" flipV="1">
            <a:off x="5028840" y="1447920"/>
            <a:ext cx="2057400" cy="3657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457200" y="1828800"/>
            <a:ext cx="8153280" cy="2322360"/>
            <a:chOff x="457200" y="1828800"/>
            <a:chExt cx="8153280" cy="2322360"/>
          </a:xfrm>
        </p:grpSpPr>
        <p:sp>
          <p:nvSpPr>
            <p:cNvPr id="332" name="Text Box 3"/>
            <p:cNvSpPr/>
            <p:nvPr/>
          </p:nvSpPr>
          <p:spPr>
            <a:xfrm>
              <a:off x="6310080" y="1833480"/>
              <a:ext cx="1555200" cy="803880"/>
            </a:xfrm>
            <a:prstGeom prst="rect">
              <a:avLst/>
            </a:prstGeom>
            <a:solidFill>
              <a:srgbClr val="b2e3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کنش</a:t>
              </a:r>
              <a:endParaRPr b="0" lang="en-US" sz="25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3" name="Text Box 4"/>
            <p:cNvSpPr/>
            <p:nvPr/>
          </p:nvSpPr>
          <p:spPr>
            <a:xfrm>
              <a:off x="4365720" y="1828800"/>
              <a:ext cx="1555200" cy="803520"/>
            </a:xfrm>
            <a:prstGeom prst="rect">
              <a:avLst/>
            </a:prstGeom>
            <a:solidFill>
              <a:srgbClr val="f273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تأمل</a:t>
              </a:r>
              <a:endParaRPr b="0" lang="en-US" sz="25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4" name="Text Box 5"/>
            <p:cNvSpPr/>
            <p:nvPr/>
          </p:nvSpPr>
          <p:spPr>
            <a:xfrm>
              <a:off x="2299680" y="1869840"/>
              <a:ext cx="1715040" cy="80388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چالش</a:t>
              </a:r>
              <a:endParaRPr b="0" lang="en-US" sz="25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5" name="Text Box 6"/>
            <p:cNvSpPr/>
            <p:nvPr/>
          </p:nvSpPr>
          <p:spPr>
            <a:xfrm>
              <a:off x="457200" y="1840680"/>
              <a:ext cx="1555200" cy="803520"/>
            </a:xfrm>
            <a:prstGeom prst="rect">
              <a:avLst/>
            </a:prstGeom>
            <a:solidFill>
              <a:srgbClr val="5fe8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5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احساس امنیت</a:t>
              </a:r>
              <a:endParaRPr b="0" lang="en-US" sz="25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6" name="Line 7"/>
            <p:cNvSpPr/>
            <p:nvPr/>
          </p:nvSpPr>
          <p:spPr>
            <a:xfrm>
              <a:off x="2040840" y="2259000"/>
              <a:ext cx="2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7" name="Line 8"/>
            <p:cNvSpPr/>
            <p:nvPr/>
          </p:nvSpPr>
          <p:spPr>
            <a:xfrm>
              <a:off x="4075920" y="2259000"/>
              <a:ext cx="27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8" name="Line 9"/>
            <p:cNvSpPr/>
            <p:nvPr/>
          </p:nvSpPr>
          <p:spPr>
            <a:xfrm>
              <a:off x="5977440" y="2212200"/>
              <a:ext cx="2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39" name="Freeform 10"/>
            <p:cNvSpPr/>
            <p:nvPr/>
          </p:nvSpPr>
          <p:spPr>
            <a:xfrm>
              <a:off x="5153040" y="2259000"/>
              <a:ext cx="3191040" cy="1166760"/>
            </a:xfrm>
            <a:custGeom>
              <a:avLst/>
              <a:gdLst>
                <a:gd name="textAreaLeft" fmla="*/ 0 w 3191040"/>
                <a:gd name="textAreaRight" fmla="*/ 3191400 w 31910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5958" h="1838">
                  <a:moveTo>
                    <a:pt x="5189" y="0"/>
                  </a:moveTo>
                  <a:lnTo>
                    <a:pt x="5958" y="0"/>
                  </a:lnTo>
                  <a:lnTo>
                    <a:pt x="5958" y="1838"/>
                  </a:lnTo>
                  <a:lnTo>
                    <a:pt x="0" y="1838"/>
                  </a:lnTo>
                  <a:lnTo>
                    <a:pt x="0" y="8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40" name="Freeform 11"/>
            <p:cNvSpPr/>
            <p:nvPr/>
          </p:nvSpPr>
          <p:spPr>
            <a:xfrm>
              <a:off x="3065040" y="2149200"/>
              <a:ext cx="5425200" cy="1512720"/>
            </a:xfrm>
            <a:custGeom>
              <a:avLst/>
              <a:gdLst>
                <a:gd name="textAreaLeft" fmla="*/ 0 w 5425200"/>
                <a:gd name="textAreaRight" fmla="*/ 5425560 w 542520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10129" h="2383">
                  <a:moveTo>
                    <a:pt x="9087" y="0"/>
                  </a:moveTo>
                  <a:lnTo>
                    <a:pt x="10129" y="0"/>
                  </a:lnTo>
                  <a:lnTo>
                    <a:pt x="10129" y="2383"/>
                  </a:lnTo>
                  <a:lnTo>
                    <a:pt x="0" y="2383"/>
                  </a:lnTo>
                  <a:lnTo>
                    <a:pt x="0" y="11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341" name="Freeform 12"/>
            <p:cNvSpPr/>
            <p:nvPr/>
          </p:nvSpPr>
          <p:spPr>
            <a:xfrm>
              <a:off x="1070280" y="2022840"/>
              <a:ext cx="7540200" cy="2128320"/>
            </a:xfrm>
            <a:custGeom>
              <a:avLst/>
              <a:gdLst>
                <a:gd name="textAreaLeft" fmla="*/ 0 w 7540200"/>
                <a:gd name="textAreaRight" fmla="*/ 7540560 w 7540200"/>
                <a:gd name="textAreaTop" fmla="*/ 0 h 2128320"/>
                <a:gd name="textAreaBottom" fmla="*/ 2128680 h 2128320"/>
              </a:gdLst>
              <a:ahLst/>
              <a:rect l="textAreaLeft" t="textAreaTop" r="textAreaRight" b="textAreaBottom"/>
              <a:pathLst>
                <a:path w="14077" h="3352">
                  <a:moveTo>
                    <a:pt x="12811" y="0"/>
                  </a:moveTo>
                  <a:lnTo>
                    <a:pt x="14077" y="0"/>
                  </a:lnTo>
                  <a:lnTo>
                    <a:pt x="14077" y="3352"/>
                  </a:lnTo>
                  <a:lnTo>
                    <a:pt x="0" y="3352"/>
                  </a:lnTo>
                  <a:lnTo>
                    <a:pt x="0" y="1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cs typeface="B Titr"/>
              </a:rPr>
              <a:t>به پایان آمد این دفتر حکایت همچنان باقی است</a:t>
            </a:r>
            <a:r>
              <a:rPr b="0" lang="fa-IR" sz="4000" spc="-1" strike="noStrike">
                <a:solidFill>
                  <a:srgbClr val="ffffff"/>
                </a:solidFill>
                <a:latin typeface="Franklin Gothic Book"/>
                <a:ea typeface="B Titr"/>
              </a:rPr>
              <a:t>.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ff0000"/>
                </a:solidFill>
                <a:latin typeface="Perpetua"/>
                <a:cs typeface="B Titr"/>
              </a:rPr>
              <a:t>با سپاس از همراهی شما بزرگواران در طول این سفر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9900"/>
                </a:solidFill>
                <a:latin typeface="Franklin Gothic Book"/>
                <a:cs typeface="B Titr"/>
              </a:rPr>
              <a:t>اسناد قانونی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grpSp>
        <p:nvGrpSpPr>
          <p:cNvPr id="244" name="Subtitle 4"/>
          <p:cNvGrpSpPr/>
          <p:nvPr/>
        </p:nvGrpSpPr>
        <p:grpSpPr>
          <a:xfrm>
            <a:off x="285840" y="1285920"/>
            <a:ext cx="8308800" cy="5280120"/>
            <a:chOff x="285840" y="1285920"/>
            <a:chExt cx="8308800" cy="5280120"/>
          </a:xfrm>
        </p:grpSpPr>
        <p:pic>
          <p:nvPicPr>
            <p:cNvPr id="245" name="Subtitle 4" descr=""/>
            <p:cNvPicPr/>
            <p:nvPr/>
          </p:nvPicPr>
          <p:blipFill>
            <a:blip r:embed="rId1"/>
            <a:stretch/>
          </p:blipFill>
          <p:spPr>
            <a:xfrm>
              <a:off x="285840" y="1285920"/>
              <a:ext cx="8308800" cy="528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09480" y="1523880"/>
              <a:ext cx="7772400" cy="49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cs typeface="B Titr"/>
                </a:rPr>
                <a:t>نقش معلم در برنامه درسی ملی </a:t>
              </a:r>
              <a:r>
                <a:rPr b="0" lang="fa-IR" sz="12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( صفحه</a:t>
              </a:r>
              <a:r>
                <a:rPr b="0" lang="fa-IR" sz="12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12</a:t>
              </a:r>
              <a:r>
                <a:rPr b="0" lang="fa-IR" sz="12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)</a:t>
              </a:r>
              <a:endParaRPr b="0" lang="en-US" sz="12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« برای خلق فرصت های تربیتی و آموزش</a:t>
              </a:r>
              <a:r>
                <a:rPr b="0" lang="en-US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]</a:t>
              </a: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cs typeface="B Titr"/>
                </a:rPr>
                <a:t>معلم </a:t>
              </a:r>
              <a:r>
                <a:rPr b="0" lang="en-US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[</a:t>
              </a:r>
              <a:r>
                <a:rPr b="0" lang="fa-IR" sz="4000" spc="-1" strike="noStrike" baseline="30000">
                  <a:solidFill>
                    <a:srgbClr val="009900"/>
                  </a:solidFill>
                  <a:latin typeface="Perpetua"/>
                  <a:ea typeface="B Titr"/>
                </a:rPr>
                <a:t> مسئولیت تطبیق، تدوین، اجرا و ارزشیابی برنامه های درسی و تربیتی در سطح کلاس درس را بر عهده دارد»).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>
                  <a:solidFill>
                    <a:srgbClr val="009900"/>
                  </a:solidFill>
                  <a:latin typeface="Perpetua"/>
                  <a:ea typeface="B Titr"/>
                </a:rPr>
                <a:t>« با شناخت و بسط ظرفیت های وجودی دانش آموزان و خلق فرصت های تربیتی و آموزشی زمینه درک و انگیزه اصلاح مداوم موقعیت آنان را  فراهم سازد»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Title 6"/>
          <p:cNvGrpSpPr/>
          <p:nvPr/>
        </p:nvGrpSpPr>
        <p:grpSpPr>
          <a:xfrm>
            <a:off x="853920" y="622440"/>
            <a:ext cx="7888320" cy="2511360"/>
            <a:chOff x="853920" y="622440"/>
            <a:chExt cx="7888320" cy="2511360"/>
          </a:xfrm>
        </p:grpSpPr>
        <p:pic>
          <p:nvPicPr>
            <p:cNvPr id="248" name="Title 6" descr=""/>
            <p:cNvPicPr/>
            <p:nvPr/>
          </p:nvPicPr>
          <p:blipFill>
            <a:blip r:embed="rId1"/>
            <a:stretch/>
          </p:blipFill>
          <p:spPr>
            <a:xfrm>
              <a:off x="853920" y="622440"/>
              <a:ext cx="788832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914400" y="655560"/>
              <a:ext cx="7772400" cy="23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4000" spc="-1" strike="noStrike">
                  <a:solidFill>
                    <a:srgbClr val="f2f2f2"/>
                  </a:solidFill>
                  <a:latin typeface="Franklin Gothic Book"/>
                  <a:cs typeface="B Titr"/>
                </a:rPr>
                <a:t>نقش معلم به عنوان آموزش دهنده موضوعات</a:t>
              </a:r>
              <a:r>
                <a:rPr b="1" lang="fa-IR" sz="4000" spc="-1" strike="noStrike">
                  <a:solidFill>
                    <a:srgbClr val="f2f2f2"/>
                  </a:solidFill>
                  <a:latin typeface="Franklin Gothic Book"/>
                  <a:ea typeface="B Titr"/>
                </a:rPr>
                <a:t> 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50" name="Title 6"/>
          <p:cNvGrpSpPr/>
          <p:nvPr/>
        </p:nvGrpSpPr>
        <p:grpSpPr>
          <a:xfrm>
            <a:off x="785880" y="3693960"/>
            <a:ext cx="8023320" cy="2230560"/>
            <a:chOff x="785880" y="3693960"/>
            <a:chExt cx="8023320" cy="2230560"/>
          </a:xfrm>
        </p:grpSpPr>
        <p:pic>
          <p:nvPicPr>
            <p:cNvPr id="251" name="Title 6" descr=""/>
            <p:cNvPicPr/>
            <p:nvPr/>
          </p:nvPicPr>
          <p:blipFill>
            <a:blip r:embed="rId2"/>
            <a:stretch/>
          </p:blipFill>
          <p:spPr>
            <a:xfrm>
              <a:off x="785880" y="3693960"/>
              <a:ext cx="802332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914400" y="3809880"/>
              <a:ext cx="777240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0" lang="fa-IR" sz="4000" spc="-1" strike="noStrike">
                  <a:solidFill>
                    <a:srgbClr val="e5f6d8"/>
                  </a:solidFill>
                  <a:latin typeface="Franklin Gothic Book"/>
                  <a:cs typeface="B Titr"/>
                </a:rPr>
                <a:t>نقش معلم به عنوان کارگزار  فکور 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138677"/>
                </a:solidFill>
                <a:latin typeface="Franklin Gothic Book"/>
                <a:cs typeface="B Titr"/>
              </a:rPr>
              <a:t>اهداف کارگاه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254" name="Content Placeholder 2" descr=""/>
          <p:cNvPicPr/>
          <p:nvPr/>
        </p:nvPicPr>
        <p:blipFill>
          <a:blip r:embed="rId1"/>
          <a:stretch/>
        </p:blipFill>
        <p:spPr>
          <a:xfrm>
            <a:off x="895320" y="1427040"/>
            <a:ext cx="786456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itle 1"/>
          <p:cNvGrpSpPr/>
          <p:nvPr/>
        </p:nvGrpSpPr>
        <p:grpSpPr>
          <a:xfrm>
            <a:off x="785880" y="158760"/>
            <a:ext cx="8023320" cy="1395360"/>
            <a:chOff x="785880" y="158760"/>
            <a:chExt cx="8023320" cy="1395360"/>
          </a:xfrm>
        </p:grpSpPr>
        <p:pic>
          <p:nvPicPr>
            <p:cNvPr id="256" name="Title 1" descr=""/>
            <p:cNvPicPr/>
            <p:nvPr/>
          </p:nvPicPr>
          <p:blipFill>
            <a:blip r:embed="rId1"/>
            <a:stretch/>
          </p:blipFill>
          <p:spPr>
            <a:xfrm>
              <a:off x="785880" y="158760"/>
              <a:ext cx="80233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914400" y="2746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4000" spc="-1" strike="noStrike">
                  <a:solidFill>
                    <a:srgbClr val="138677"/>
                  </a:solidFill>
                  <a:latin typeface="Franklin Gothic Book"/>
                  <a:ea typeface="B Titr"/>
                </a:rPr>
                <a:t> </a:t>
              </a:r>
              <a:r>
                <a:rPr b="0" lang="fa-IR" sz="4000" spc="-1" strike="noStrike">
                  <a:solidFill>
                    <a:srgbClr val="138677"/>
                  </a:solidFill>
                  <a:latin typeface="Franklin Gothic Book"/>
                  <a:cs typeface="B Titr"/>
                </a:rPr>
                <a:t>پرسش ها</a:t>
              </a:r>
              <a:endParaRPr b="0" lang="en-US" sz="40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258" name="Content Placeholder 2" descr=""/>
          <p:cNvPicPr/>
          <p:nvPr/>
        </p:nvPicPr>
        <p:blipFill>
          <a:blip r:embed="rId2"/>
          <a:stretch/>
        </p:blipFill>
        <p:spPr>
          <a:xfrm>
            <a:off x="822240" y="1427040"/>
            <a:ext cx="793764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Diagram 3" descr=""/>
          <p:cNvPicPr/>
          <p:nvPr/>
        </p:nvPicPr>
        <p:blipFill>
          <a:blip r:embed="rId1"/>
          <a:stretch/>
        </p:blipFill>
        <p:spPr>
          <a:xfrm>
            <a:off x="-60480" y="298440"/>
            <a:ext cx="868680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Diagram 1" descr=""/>
          <p:cNvPicPr/>
          <p:nvPr/>
        </p:nvPicPr>
        <p:blipFill>
          <a:blip r:embed="rId1"/>
          <a:stretch/>
        </p:blipFill>
        <p:spPr>
          <a:xfrm>
            <a:off x="682560" y="384120"/>
            <a:ext cx="81630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mene</dc:creator>
  <dc:description/>
  <dc:language>en-US</dc:language>
  <cp:lastModifiedBy>Marziyeh</cp:lastModifiedBy>
  <dcterms:modified xsi:type="dcterms:W3CDTF">2016-01-11T08:26:23Z</dcterms:modified>
  <cp:revision>110</cp:revision>
  <dc:subject/>
  <dc:title>Slide 1</dc:title>
</cp:coreProperties>
</file>